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63AB-BC2F-443B-AEF0-6993AB021A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F738-8F37-452C-B059-2FFA3CEC17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F9B6-C724-4DF5-9EBC-73AB465B27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A3C4-D6C4-4F0F-B8A4-FE6F56A942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1C9A-2BE5-4EF2-9CEC-1FEABEEB5E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BB10-133C-4FB8-AC7E-3DDB5EFA80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5DD1-E793-4573-88FD-19785A4C45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DBBA-7F33-4AB1-B1A2-9E9CBD512B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78BA-927A-48FA-B708-CE7BFEA698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0055-D2AE-4A4F-A702-9395653AAE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BB19-7EB9-4978-8D4A-170FEE3A22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3421-C5BB-40F8-A527-6441D5270F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3CDB-3C5E-4645-8D4F-45ABB03A65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145B-01B2-4CBA-A77C-30E66372C4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9300-E1DE-48F3-BAC8-E4A325E1BB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60D1-009D-46EC-AC24-472B9867A6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743A-4B1A-4D2A-ADF6-6E2009E2DF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A51-7AB0-40A0-A61E-0600AE86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40B6-7D22-473E-A722-E0D77F95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1D2-A5CA-446B-875E-363676C2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46C-4CDE-42C5-A910-8D9527B4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208-4D36-47BB-B00A-1528C120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C50A-5BFC-4945-BDC5-DC8758DA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0A4-0309-4DA9-B322-32327111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7A0-1F53-4933-829B-C818804F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646-BBBD-4712-8EA9-24BE7BD9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F4A-0D22-46F7-BE83-1479940E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58B9-3F76-4CCB-8954-E9A2C884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499-D4A2-419D-B5D5-1F710C26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9913-207C-4481-974B-3FA7C3A1FA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alculintegral.csaint-pierre.ep.profweb.qc.ca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5366-AB49-4C68-96B7-5E1E76A381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58560" y="2924280"/>
            <a:ext cx="610236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Éduquer les jeunes à une autre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971640" y="3860640"/>
            <a:ext cx="6629400" cy="19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hilippe Etcheco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Groupe Initiatives Sciences Citoy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égep de Rimous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68360" y="148428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Une autre science est possible : une science collaborative, une science ouverte, une science engagée, contre la marchandisation du sa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50920" y="549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Times New Roman"/>
              </a:rPr>
              <a:t>Collo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4E2F-2828-45CB-A381-D128153DCC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40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périence d’une éducation aux sciences citoyennes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692280"/>
            <a:ext cx="6877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 L’information: connaître, comprendre et faire des li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79280" y="1125360"/>
            <a:ext cx="896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uivre l’actualité sur 4 thèmes : mathématiques, sciences, environnement, pseudos sciences. Abonnement à des « newsletters » de sites propos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hoisir un sujet par thème et effectuer une recherche documentaire (web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tablir des liens entre les sujets retenus et leurs enjeux sur la socié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cherche documentaire sur un thème controversé (facultati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3213000"/>
            <a:ext cx="914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 Les valeurs : (objectifs généraux de S.N.dont se situer et autonomie de pensée), démocratie et esprit cri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79280" y="3789360"/>
            <a:ext cx="8498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sprit critique : limites des modèles mathématiques, les différents points de vue sur les questions d’environnement (démographie, santé…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nir compte du cours d’éthique à ven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ation de notes de cours « Mathématiques et environnement 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06AE-8E9D-4894-BA12-CE8A10A354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40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périence d’une éducation aux sciences citoyennes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0920" y="1052640"/>
            <a:ext cx="7777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3 La communication : communiquer et interven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95280" y="1916280"/>
            <a:ext cx="76327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nue d’un blogue individu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itiation à la rédaction d’articles sur des sujets controvers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article d’opinion pour chacun des sujets des 4 thèmes et un dossier pour la recherche documentaire, au moins 4 arti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tériel pour des groupes communautaires (facultati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4427-D68A-436E-8890-FE1048208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 guise de bilan et quelques pi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692280"/>
            <a:ext cx="6877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marques géné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79280" y="1125360"/>
            <a:ext cx="896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lon les sondages, les élèves ont été très intéressé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est nécessaire de préparer les élèves à une science citoyenne, cela correspond à un besoin de société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’est d’autant plus nécessaire que l’évolution des sciences et de la société s’accélè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2997360"/>
            <a:ext cx="8604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questions soulevées sur les éléments de base d’une formation citoyen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24000" y="3429000"/>
            <a:ext cx="792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méthodes de gestion de l’information restent à préci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faut définir plus précisément des valeurs comme la démocratie, l’esprit critique, le sens de l’éthique et penser comment les intégrer dans les c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faut mieux connaître les valeurs des jeunes pour en tenir comp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méthodes de la gestion des communications restent à préci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interventions dans le milieu : parascolaires, etc, restent à préciser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7960-948A-4775-B74C-5F871541B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 guise de bilan et quelques pi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79280" y="765000"/>
            <a:ext cx="76345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élè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0" y="1413000"/>
            <a:ext cx="896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expérience a porté sur un cours dans une discipline, il est difficile d’évaluer son impact sur la formation des élè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s ont apprécié que des liens aient été établis entre ce qui les intéresse, les cours et la société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est nécessaire de tenir compte de leur cultu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2348-0451-4007-9AF9-ECDCEBBAD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 guise de bilan et quelques pi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549360"/>
            <a:ext cx="6877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profess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79280" y="907920"/>
            <a:ext cx="896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professeurs concernés ont apprécié l’expéri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intégration d’éléments de sciences citoyennes devrait être améliorée en terme de contenus, d’approches pédagogiques et d’intégration dans les c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u perfectionnement et des ressources sont nécessai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2852640"/>
            <a:ext cx="7634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ciences de la na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50920" y="3429000"/>
            <a:ext cx="8064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intégration d’éléments de formation citoyenne correspond aux objectifs généraux du programme de Sciences de la n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intégration d’éléments de formation citoyenne devrait être multidisciplina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faudrait s’interroger sur les interventions dans le milieu et le rôle des parascolaire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E253-DD9A-47A6-A626-D9970FB6C4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 guise de bilan et quelques pi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50920" y="981000"/>
            <a:ext cx="7777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pis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250920" y="1484280"/>
            <a:ext cx="86421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est nécessaire de suivre les changements accélérés apportés par le développement des sciences et adapter l’enseignement en conséquence, le temps est comp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faut tenir compte  des expériences qui se font déjà comme l’ERE (Éducation Relative à l’Environnement) et échanger (rencontres, colloques, et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recherches devraient porter sur une éducation aux sciences citoyennes et permettre de proposer des pistes d’intégration dans les curriculu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BCCE-593F-4570-BB96-5C76DE6180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-1332000" y="197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21351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2135160"/>
            <a:ext cx="173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21351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0" y="2135160"/>
            <a:ext cx="173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0" y="21351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0" y="2135160"/>
            <a:ext cx="173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0" y="21351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0" y="2135160"/>
            <a:ext cx="173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-757080" y="5072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0" y="21351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0" y="2135160"/>
            <a:ext cx="173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21351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0" y="2135160"/>
            <a:ext cx="173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0" y="21351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1763640" y="2421000"/>
            <a:ext cx="173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5867280" y="17733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2"/>
          <p:cNvSpPr/>
          <p:nvPr/>
        </p:nvSpPr>
        <p:spPr>
          <a:xfrm>
            <a:off x="0" y="5300640"/>
            <a:ext cx="173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900000" y="515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632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togra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1"/>
          <p:cNvSpPr/>
          <p:nvPr/>
        </p:nvSpPr>
        <p:spPr>
          <a:xfrm>
            <a:off x="468360" y="836640"/>
            <a:ext cx="7632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Initiatives Sciences Citoyen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http://www2.cegep-rimouski.qc.ca/isc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Blogues de l’expérience et blogues des élè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http://calculintegral.petchecopar.ep.profweb.qc.ca/</a:t>
            </a:r>
            <a:r>
              <a:rPr b="0" lang="fr-CA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http://calculintegral.csaint.ep.profweb.qc.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539640" y="3213000"/>
            <a:ext cx="6480360" cy="33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utiliser des technologies appropriées de traitement de l’informatio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apprendre de façon autonom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établir des liens entre la science, la technologie et l’évolution de la société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adopter des attitudes utiles au travail scientifique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éfinir son système de valeurs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250920" y="2565360"/>
            <a:ext cx="7632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objectifs généraux de Sciences de la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6EC4-D223-41FC-9053-B18D2E6DA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périence d’initiation aux sciences citoyenne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égep de Rimouski 2008-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24000" y="98100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ctualiser l’enseignement des mathématiques avec l’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oposer des éléments pour une éducation aux sciences citoy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50920" y="2205000"/>
            <a:ext cx="6626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léments du contexte, 1) l’évolution des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50920" y="2565360"/>
            <a:ext cx="842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e évolution des sciences de plus en plus rapide, de plus en plus complexe, des sciences  de plus en plus inter-reli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développement exponentiel de l’information et des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retombées de plus en plus importantes sur la socié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179280" y="4149720"/>
            <a:ext cx="7129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léments du contexte, 2) l’évolution de la socié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395280" y="4581360"/>
            <a:ext cx="813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ndialisation de la société, règne des lois du marché et tendance à l’effacement des Ét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veloppement d’un fossé entre les sciences et les citoyens, une démocratie en da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13EB-52C1-4A16-BCB1-B4829902A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476360" y="404640"/>
            <a:ext cx="597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érience d’initiation aux sciences citoy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468360" y="1268280"/>
            <a:ext cx="8424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léments du contexte, 3) la formation citoyen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 Cégep de Rimouski, mise sur pied du Groupe Initiatives Sciences Citoyen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 niveau secondaire, en histoire, développement d’une éducation à la citoyenneté, sous le thème « vivre ensemble 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 niveau collégial, nécessité d’une éducation aux sciences citoyennes en sci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E9AE-AD7C-46A1-B6BE-53A3731157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 quelques éléments d’une éducation aux sciences citoyennes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981000"/>
            <a:ext cx="774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 Une maîtrise de l’information: connaître, comprendre et faire des li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79280" y="1413000"/>
            <a:ext cx="8964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uivre l’actualité, suivre l’évolution des sciences, suivre leurs retombées  dans la socié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tablir des liens entre les phénomènes scientifiques et leurs enjeux sociaux, éthiques et économiques pour la société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Gérer les Tics et l’information: la trouver, l’évaluer, la classer, l’utili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nir compte de la culture des jeu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0" y="3933720"/>
            <a:ext cx="7634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 Une acquisition de valeurs : se situer et autonomie de pen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79280" y="4221000"/>
            <a:ext cx="896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valeurs incluses dans les objectifs généraux de Sciences de la nature (cf : Définir son système de valeur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démocratie en sciences (éducation à la citoyenneté vue au secondair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esprit critique et l’éthique en sci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nir compte des valeurs des jeunes, utilitarisme, individualisme (Enquête Ro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CF9E-DF95-4CEE-9663-516627693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1628640"/>
            <a:ext cx="7777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3 Une maîtrise de la communication : communiquer et interven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24000" y="2205000"/>
            <a:ext cx="7561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îtriser les outils de communication (web 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velopper une capacité à argumenter publiquement et à vulgari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velopper une capacité à intervenir dans la communau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 quelques éléments d’une éducation aux sciences citoyennes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1CB7-2785-470F-A184-B919558A7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Grille possible pour une éducation aux sciences citoyen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981080"/>
          <a:ext cx="7772400" cy="4534200"/>
        </p:xfrm>
        <a:graphic>
          <a:graphicData uri="http://schemas.openxmlformats.org/drawingml/2006/table">
            <a:tbl>
              <a:tblPr/>
              <a:tblGrid>
                <a:gridCol w="1222200"/>
                <a:gridCol w="2016360"/>
                <a:gridCol w="1871640"/>
                <a:gridCol w="2662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info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vale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communication et l’interven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ap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ivre l’actualité et l’évolution des sci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eurs démocratiques et éthiq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érer la communication et les outils du web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ap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érer l’information et les ressources du w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rit critique, différents points de vue sur les enje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té à utiliser les formes de communication et à vulgari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ape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ablir des liens entre les sciences et leurs enjeux soci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gement personnel et raisonn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venir loca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venir globalement (blogues, réseaux sociau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BD77-217D-4475-82F0-BBF9BB8DE9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63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périence d’éducation aux sciences citoyennes au Cégep de Rimousk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0" y="148428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 Les cours de mathématiques en sciences de la nature  (1995-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539640" y="4149720"/>
            <a:ext cx="835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éthode APP et démarche de modélis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ation des TIC: logiciels de calcul symbolique (Maple), Internet et ordinateurs port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olet culture avec 5% des points dans chaque c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250920" y="21337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Obj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611280" y="2708280"/>
            <a:ext cx="770580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Rapprocher les mathématiques enseignées des mathématiques utilisées en sci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Intéresser les élèves aux mathématiques et à leur rôle dans la socié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250920" y="3645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ACD9-9254-4B4C-84F7-38FF80C682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63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périence d’éducation aux sciences citoyen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765000"/>
            <a:ext cx="568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 Le calcul intég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79280" y="1628640"/>
            <a:ext cx="8964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roche du calcul intégral : connaissant la variation d’un phénomène, comment dresser le modèle mathématique de ce phénomèn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environnement comme fil conducteur : dynamique des populations dans un écosystè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tude de différents types de modèles  et leurs idéologies sous jacentes : modèles de Malthus,  de Verhulst, de Voltera (prédateurs proi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anté : propagation des épidém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68360" y="119700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ils condu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B091-A3EC-4BA9-85B3-2EDB93CF9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63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périence d’éducation aux sciences citoyen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1052640"/>
            <a:ext cx="5688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 Le calcul intég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68360" y="1557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Cadre pédagog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95280" y="2060640"/>
            <a:ext cx="828216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urs de session 2, coordination avec le cours de biologie (les écosystèm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férences au cours d’éthique (philosophie en session 4) sur la démographie, la santé, l’ea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r la modélisation-simulation pour les 5 laboratoires sur les différents modèles de dynamique des popul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ulture (coordination avec biologie), lectures et recherches documentaires dans une optique de mathématiques et d’environn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22:29:20Z</dcterms:created>
  <dc:creator>Etchecopar Philippe</dc:creator>
  <dc:description/>
  <dc:language>en-US</dc:language>
  <cp:lastModifiedBy>Mélissa</cp:lastModifiedBy>
  <dcterms:modified xsi:type="dcterms:W3CDTF">2011-07-29T19:59:15Z</dcterms:modified>
  <cp:revision>150</cp:revision>
  <dc:subject/>
  <dc:title>Maple et démarche algorithmique</dc:title>
</cp:coreProperties>
</file>